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E4C9-A229-4A7D-BF73-1DCB8BDF6540}" type="slidenum">
              <a:rPr b="0" lang="cy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y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4276-D4EF-43F2-88FE-757B39E00C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Dalfan Rhif y Sleid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9B04-C874-4407-ACCE-BA07449D0352}" type="slidenum">
              <a:rPr b="0" lang="cy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Dalfan Rhif y Sleid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544C-D7E7-44BF-B530-DE725848B948}" type="slidenum">
              <a:rPr b="0" lang="cy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Dalfan Rhif y Sleid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851B-2D2F-48BD-B40F-D8C1F2CD3FA8}" type="slidenum">
              <a:rPr b="0" lang="cy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Dalfan Rhif y Sleid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4D4C-2853-4473-9F12-648AF4CAE3AD}" type="slidenum">
              <a:rPr b="0" lang="cy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Dalfan Rhif y Sleid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B586-463F-4E21-A935-F96CDE8B341B}" type="slidenum">
              <a:rPr b="0" lang="cy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Dalfan Rhif y Sleid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361A-D267-4410-BF38-BFF270C0F760}" type="slidenum">
              <a:rPr b="0" lang="cy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C8B9-F6DE-421A-ACB5-D5654F39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F787-531D-4E1F-883B-50FCE0BC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031C-FABC-488C-83FD-5C33540E9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6052-7B33-4FB0-85A4-E386A1B0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CB64-55B5-46BB-9121-8632A6D4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F63D-B06D-47BE-A215-8C054968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629F-39E5-4BE8-973D-104C8AEB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FA06-2889-425E-B500-592DC479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B188-3B96-4AAC-A9B6-503BBEC1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FEAE-079D-4891-9D1B-6876675F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009F-54D9-4F5D-B965-B104AC3C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AD37-3C95-4419-8EB7-2CC9C863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AB88-B126-4454-9A84-5FCE92EC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1031-CAC6-4166-8AA7-1867D1BF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C3B9-E045-461A-9787-17FDC2B3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F986-2924-4FA5-BD52-AD820B49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BF98-97BF-45B0-A98E-F2F44A5E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F747E-640F-4828-B01F-01EF8248A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6A8F9-D3E0-46F7-98AF-4931E30E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B7AF2-695E-492F-8FD0-3F92B50C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77F7D-708B-46B8-A040-919B6BBD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DBA09-3794-41CD-AF40-65CC10AF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9403-85D9-4551-B8C2-18026BCA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C63A8-321C-4271-B9C2-FCEBA2F1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DBDA5-AD6E-4890-A7E4-D0823F49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D41CE-D8B9-44B0-B5FD-3BBC6E06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9B3FC-C945-4528-8527-C5C798DE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7A0F5-2906-4A1D-94A8-C94A2C09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EFC82-071E-419E-8D3B-0E6EDC181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09812-4882-4F2F-8F6B-8AA7A9DDD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77DC4-F540-4CF6-BE6C-79B0154F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8FCB7-DDE5-42E6-BC4B-53EB9887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4B309-EA70-4633-BBC8-A5699A21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50DB-D917-414C-931A-692F4CB1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240F0-BE0F-4C67-A8B3-C8897F40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306AC-2A16-4769-8665-4572D505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6C9C6-F78A-4080-8BDB-F5CA84E2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B68E0-1075-4BF7-9343-B2CE1479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B5691-600F-4647-9B58-0049D502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EABA5-A0F3-4489-AE0B-062AD0EE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384F7-D974-4F0B-9DC0-D0DAF0F6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C065A-81CB-4D25-941C-FFAA6EDC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D776D-C91A-4FFE-B50A-DE939E3E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40AFB-B9CA-44D4-A024-07CD012D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2926-EAE4-48A2-A5F4-22887704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4B933-EF15-46F0-9019-27626BA0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E2BCD-B968-4492-86AE-44DFE534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756EB-C4ED-4D76-8F6F-E3429B3C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056EB-D57C-4FC2-A63C-8D3DD64B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CF45B-5791-44F1-812B-CEA54E10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03575-981F-4BD2-9EC2-19D747E5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F3FED-873A-4283-BCEA-716938B5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93CA1-CBF8-4B57-82A1-243B4BB9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61A69-ECB8-48AA-8162-5A503269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1DD9E-B461-4172-BBEA-D7ADCB59A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C90D-D01C-4538-93B9-1808F378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9B57A-F25F-4A63-BF2A-E06B30521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1AFB5-991A-4100-B11C-D6E9F262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D21AD-C816-473E-9053-DBF1048D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D59B0-8B0E-4DF5-980E-DA2FEB87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0B3F8-6FB7-4294-9D29-DCCE0E3F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2F78F-6A6C-498D-A532-2839CD94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87BEA-3C1E-457D-AB9C-E350B07D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739EC-01B4-453C-A4D9-6E67CBB9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57F0B-BCD1-4022-817F-B1844C6D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FC77A-21CC-4416-8231-45D91536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9C7E-58CC-46CA-95EA-A62C3CE1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BA7F1-66CC-4033-9D48-03C9983C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94CCF-F71B-4C3E-ADCE-0EB718AB3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93D7B-8436-4605-AB65-9B37006C6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9E5AA-FC24-41A2-9A8C-868F9CDC4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CCE0C-C0FC-4B1C-A547-2BF9F25A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AC618-42CA-457B-B411-49BC0317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1E67B-7171-46FB-B394-AE9DCBE1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6332E-F10B-4037-9F59-0A280ACB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FD6CA-6730-4160-BF03-FE555708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6ACFC-2393-4109-88A0-568A2A03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F141-4858-45EE-A119-685AAE7D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10430-A6B3-4AD0-AEF4-63B9B9C2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E9004-7477-4B58-ADD9-78910F4B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D446E-4D13-4DEA-BFF3-46BAF1DD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76C9D-6C37-45EF-B77E-133B8F901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0F7C0-787B-4D5C-A3D6-875DC2838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35E6-D5E0-430C-B5B4-64592992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8735-1BA0-4BD7-A7C3-0164961800BD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67C1-81BE-4320-B9FF-C3FAE0E1ECEA}" type="slidenum">
              <a:rPr b="0" lang="en-GB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BB62-9A1E-48E1-847E-D523991CCD47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B33B-020E-4494-B477-5C3C53FE59AB}" type="slidenum">
              <a:rPr b="0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B08C-8DCC-4059-8CFF-542C61305CC7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C616-9B4D-40DA-95B6-77E49BCCCC69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C559-E0E0-40F6-8CB3-A2D59E0D2424}" type="slidenum">
              <a:rPr b="0" lang="en-GB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8058240" cy="1468440"/>
          </a:xfrm>
          <a:prstGeom prst="rect">
            <a:avLst/>
          </a:prstGeom>
          <a:ln w="0">
            <a:noFill/>
          </a:ln>
        </p:spPr>
      </p:pic>
      <p:pic>
        <p:nvPicPr>
          <p:cNvPr id="309" name="Subtitle 2" descr=""/>
          <p:cNvPicPr/>
          <p:nvPr/>
        </p:nvPicPr>
        <p:blipFill>
          <a:blip r:embed="rId2"/>
          <a:stretch/>
        </p:blipFill>
        <p:spPr>
          <a:xfrm>
            <a:off x="542880" y="2249640"/>
            <a:ext cx="8058240" cy="17557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http://www.stephensizer.com/wp-content/uploads/2013/10/23-dragonsden.jpg"/>
          <p:cNvPicPr/>
          <p:nvPr/>
        </p:nvPicPr>
        <p:blipFill>
          <a:blip r:embed="rId3"/>
          <a:stretch/>
        </p:blipFill>
        <p:spPr>
          <a:xfrm>
            <a:off x="0" y="3235320"/>
            <a:ext cx="9144000" cy="3622680"/>
          </a:xfrm>
          <a:prstGeom prst="rect">
            <a:avLst/>
          </a:prstGeom>
          <a:ln w="0">
            <a:noFill/>
          </a:ln>
        </p:spPr>
      </p:pic>
      <p:sp>
        <p:nvSpPr>
          <p:cNvPr id="311" name="Footer Placeholder 3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U 1.1.1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Cynlluniwch!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Penderfynwch pwy fydd yr arweinydd neu a ydych yn mynd i gyflwyno fel tîm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Mae rhoi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broliant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 da yn ffurf hanfodol o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farchnata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 i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fusnes bach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 oherwydd mae'n cyfleu eich syniadau i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gwsmeriaid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 a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buddsoddwyr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 posibl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Defnyddiwch ddull amlgyfrwng: PowerPoint, arddangosiad neu boster, prototeip, delweddau ffotograffig/fideo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914400" cy="64008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Creu effaith weledol gadarnhao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6" name="Picture 2" descr="http://i.telegraph.co.uk/multimedia/archive/02073/Team-Atomic-Pitch_2073634b.jpg"/>
          <p:cNvPicPr/>
          <p:nvPr/>
        </p:nvPicPr>
        <p:blipFill>
          <a:blip r:embed="rId2"/>
          <a:srcRect l="12377" t="0" r="12377" b="0"/>
          <a:stretch/>
        </p:blipFill>
        <p:spPr>
          <a:xfrm>
            <a:off x="1138320" y="374760"/>
            <a:ext cx="7334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wrth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gyflwyno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, peidiwch byth â darllen yn uniongyrchol oddi ar y sleidiau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peidiwch byth â rhoi gormod o wybodaeth ar y sleidiau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peidiwch â defnyddio mwy na 7 sleid na chymryd mwy na 10 munud, a defnyddiwch ffont maint 30. Dylech ddechrau paratoi'r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broliant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 wythnosau ymlaen llaw – byth ar y funud olaf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Dylech osgoi trawsnewidiadau ac animeiddiadau cymhleth. Cadwch bethau'n syml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Defnyddiwch stori i gyfleu eich pwyntiau a dangos i'r gynulleidfa beth mae eich cynnyrch yn gallu ei wneud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Y mwyaf y gallwch adael i'r gwrandäwr ddychmygu defnyddio'r cynnyrch, y mwyaf tebygol y bydd o wneud rhywbeth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Byddwch yn frwdfrydig am eich cynnyrch a'r ffaith eich bod yn gwybod digon amdano i allu ateb unrhyw gwestiynau y gallai pobl eu gofyn i chi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Byddwch yn broffesiynol o ran eich ymddygiad a'ch ymddangosiad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http://newsimg.bbc.co.uk/media/images/42647000/jpg/_42647787_levi_roots_203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5383080"/>
          </a:xfrm>
          <a:prstGeom prst="rect">
            <a:avLst/>
          </a:prstGeom>
          <a:ln w="0">
            <a:noFill/>
          </a:ln>
        </p:spPr>
      </p:pic>
      <p:sp>
        <p:nvSpPr>
          <p:cNvPr id="322" name="TextBox 2"/>
          <p:cNvSpPr/>
          <p:nvPr/>
        </p:nvSpPr>
        <p:spPr>
          <a:xfrm>
            <a:off x="324000" y="573264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wnaeth Levi Roots froliant llwyddiannus ac ennill buddsoddiad o £50,000 gan y Dreigiau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68360" y="16286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25160" indent="-3632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Ymarferwch eich broliant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Ymarferwch bob trawsnewidiad ac amseriad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Byddwch yn glir ac yn glywadwy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Amrywiwch dôn eich llai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Defnyddiwch gyswllt llygaid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Strwyuthurwch eich broliant ag agoriad dynamig a diweddglo cofiadwy sy'n tynnu sylw at bwynt gwerthu unigryw eich cynnyrch neu wasanaeth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0T21:15:16Z</dcterms:created>
  <dc:creator>Eirian Evans</dc:creator>
  <dc:description/>
  <dc:language>en-US</dc:language>
  <cp:lastModifiedBy>TimData</cp:lastModifiedBy>
  <dcterms:modified xsi:type="dcterms:W3CDTF">2015-05-06T18:27:17Z</dcterms:modified>
  <cp:revision>8</cp:revision>
  <dc:subject/>
  <dc:title>Enterprise and Employability.</dc:title>
</cp:coreProperties>
</file>